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6AF-0759-4849-A3C3-2C6EC42B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29C-23BC-4A77-92CD-780FDF2C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227-F989-4499-BB3D-3AF338B7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8C7-FD65-43F6-A617-793D0F9D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D2E-7244-4A8C-B543-35B8855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C0D-FF23-4096-8002-7E88FCF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E07-175B-4C7F-897E-219C6D63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CCF-C36C-4314-8118-E9F9B216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849-C1EE-4F14-82FB-5826EA7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DF7-AE8D-45DF-8946-D53DED0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011-826F-4CE5-9992-11959A55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43F-9B37-4DF8-B83B-5FBC4E4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177-54B4-4095-8C38-A7E14C18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9258" t="18521" r="11112" b="12453"/>
          <a:stretch/>
        </p:blipFill>
        <p:spPr>
          <a:xfrm>
            <a:off x="1371600" y="251460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811" t="20835" r="7811" b="11458"/>
          <a:stretch/>
        </p:blipFill>
        <p:spPr>
          <a:xfrm>
            <a:off x="0" y="4572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9376" t="19791" r="10938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6858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What is a Wordl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06000">
            <a:off x="1219320" y="28951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ordle is a piece of text which has been rearranged into a visual pattern of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9376" t="33337" r="10938" b="11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11" t="22917" r="8594" b="11458"/>
          <a:stretch/>
        </p:blipFill>
        <p:spPr>
          <a:xfrm>
            <a:off x="0" y="1133640"/>
            <a:ext cx="914400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032" t="18753" r="7811" b="13540"/>
          <a:stretch/>
        </p:blipFill>
        <p:spPr>
          <a:xfrm>
            <a:off x="0" y="87012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8594" t="25004" r="10938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26042" r="7811" b="10420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032" t="18753" r="8594" b="13540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8594" t="18753" r="10155" b="11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30:26Z</dcterms:created>
  <dc:creator>Patrick J. Mooney</dc:creator>
  <dc:description/>
  <dc:language>en-US</dc:language>
  <cp:lastModifiedBy>Patrick J. Mooney</cp:lastModifiedBy>
  <dcterms:modified xsi:type="dcterms:W3CDTF">2011-03-07T03:21:23Z</dcterms:modified>
  <cp:revision>5</cp:revision>
  <dc:subject/>
  <dc:title>Slide 1</dc:title>
</cp:coreProperties>
</file>